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AB6B-CA08-4114-B834-81C9078D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D243-C3F0-492E-A440-3C19D63B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DC2E-C15F-4B32-B7D0-B3343B70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5FD5-A4A0-4039-9E70-B133C12B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847A-70BB-4029-BD25-83DCA503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CE4E-98F4-41A7-A8AA-0BEEE3A3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AC0-FFEB-437F-BB21-A2B7BAAA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DA16-F440-41F8-B8A3-3317FB14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406C-F168-46E4-83A1-F03BFF7F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D5A-7123-4B41-B4F9-98B54BB4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687F-424A-451E-9EE8-C4F077E6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2D28-CFEB-48EB-8431-0E260288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DE1D-8732-4553-9259-85D68C3A2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7:24:05Z</dcterms:created>
  <dc:creator> </dc:creator>
  <dc:description/>
  <dc:language>en-US</dc:language>
  <cp:lastModifiedBy> </cp:lastModifiedBy>
  <dcterms:modified xsi:type="dcterms:W3CDTF">2009-03-03T17:24:20Z</dcterms:modified>
  <cp:revision>1</cp:revision>
  <dc:subject/>
  <dc:title>Slide 1</dc:title>
</cp:coreProperties>
</file>